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B99-6881-46C4-8836-E0FF5C0A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9C6-0082-45DA-AA47-141B2352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6CB-6C55-4DCF-B51D-F44D044B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277-9BF8-4BA7-85FC-BEBB3629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57B-24DD-4E64-8FF8-AA6624FE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E07-E416-4309-9169-04E31272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99A-CD79-4DD3-B5B2-A911E8B1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7FE-7B25-417C-8B0D-00F668F3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7EE-2786-49DD-ADDB-B847DBFD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694-25C4-4373-A9B5-917B044B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9A1-2202-4918-81E6-95CB981A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06C-6E08-4688-B9FE-3D548C90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146F-CACD-4674-818B-6E6D3D41F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O9CKkbLUiI" TargetMode="Externa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1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cience and Studying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371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science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7524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cience begins a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uriosity and tries to end with discov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1337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of knowledg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nd the methods used to find that knowle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666880"/>
            <a:ext cx="7467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tists use models to help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bring things into perspective and to make it easier to underst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505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cientists use a systematic method (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scientific metho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ry and discover the answers to their curios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419112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teps includ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bservations, forming hypothesis, testing the hypothesis, analyzing and drawing conclu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9528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in mind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ne test does not make a theory AND parts, predictions and ideas of the experiment can be rev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cientists also communicat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n the same language (S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371600"/>
            <a:ext cx="6629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system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f measurement similar to metr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e use things like inches and they use things like centimeters….BUT WE ALL IN SCIENCE USE THE SAME (centimeters, for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048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429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get origin from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greek scientist Democritis, who says they are indivisi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7339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to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= Early Scient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atter is made up of individual particles called atoms (too small to study to obser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343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se atoms hav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o electrical charge </a:t>
            </a: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neu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7242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Thomson through experiments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ovides first evidence that atoms are made of smaller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omson’s experimen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ee pg. 103) showed the presence of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egatively 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utherfor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=  gold foil experiment (see pg 1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1337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ims a narrow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beam of alpha particles at a thin piece of gold foi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514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sing a scree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round the gold, rutherford was hoping to be able to follow the path an alpha particle takes after it passes through the g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200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articles did not behave like he thought:  some went straight through, some bounced off at weird angles, while some came straight 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39625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rutherford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suggests the nucleus, where positive charges hang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9144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219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made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 main part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43000" y="1981080"/>
          <a:ext cx="6933960" cy="227808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400"/>
              </a:tblGrid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Elect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400" spc="-1" strike="noStrike" baseline="30000">
                          <a:solidFill>
                            <a:srgbClr val="cc33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bout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Proton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400" spc="-1" strike="noStrike" baseline="30000">
                          <a:solidFill>
                            <a:srgbClr val="cc33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Neutron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400" spc="-1" strike="noStrike" baseline="30000">
                          <a:solidFill>
                            <a:srgbClr val="cc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143000" y="441972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*mass of a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tom mostly in the nucl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1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tructure of a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number = #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in an element.  Atoms of any given element has same # of p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371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Hydrogen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 proton = Atomic number i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number = tells how man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and n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there are in a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81952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Al = Alumi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mass number is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3886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tons  +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neutr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ass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343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opes – atoms of the sam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lement that have different #’s of neutrons, thus different mass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sotopes do hav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same atomic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990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?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# of protons stay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371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ss # differen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ecause # of neutrons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2133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Oxygen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O) – 8 protons (never change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2590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me oxygens hav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9 neutrons, giving a mass # of 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33526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aming isotopes =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sing the element name and mass number  (Oxygen –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43434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n elemen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as a number after it, we are talking about an isot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3:52:02Z</dcterms:created>
  <dc:creator>Farwell Area Schools</dc:creator>
  <dc:description/>
  <dc:language>en-US</dc:language>
  <cp:lastModifiedBy>User</cp:lastModifiedBy>
  <dcterms:modified xsi:type="dcterms:W3CDTF">2010-08-08T23:34:44Z</dcterms:modified>
  <cp:revision>27</cp:revision>
  <dc:subject/>
  <dc:title>Note Guide 1-1 Studying Atoms</dc:title>
</cp:coreProperties>
</file>